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2ECB-72D4-4AE3-821F-BD2BA5DF5A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07B5-0029-4927-B0F5-8F8C53DCDA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354E-C9C5-4EFE-A3B0-97AA4080EA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45EF-CE3B-41BC-BEE5-74AF0495D2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3CF1-F80F-4A1B-803C-49829655EE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4616-3C24-4844-92BC-AEE3590AC4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43C8-CC40-4838-AB1E-1B6B9D270E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2980-A3FE-4EDB-9949-2E29DE4187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630-D7C8-4A8E-902E-3CDB3710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248-0BE1-4BBA-A576-E95708ED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D88-FA67-441D-978C-7E1FD148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FB8-4698-46A7-A995-B43B5921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05BA-6477-4404-B1DE-3A592714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245C-B58B-4B54-8928-B590FFFB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EE90-239A-42CE-A81F-83EB8D3B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0EBA-EAF3-40F2-B3DC-70D08E4B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055E-46AC-4C3D-8BD7-E3FD7199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CCAC-00DF-4CA6-BA73-F8AD31A8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22A9-4E68-4CDC-8052-194CB3D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B92-9AD2-446D-BC18-0F11DF07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E755-9BA5-43C0-A6DB-6B386D5A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9704-3834-41E1-8421-1BBF34C0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7E54-D8BD-4D16-8522-47A69707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712A-2574-4BF2-8C0A-EC74119C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0C2C-A199-41FB-B16E-97B9A69D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9307-E9E7-494E-979D-E62E2131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749C-1E01-41E8-AB16-A4533BB7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E713-0AE9-4D5E-9886-F0061545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800D9-6C99-4D83-80DE-A03DC1D4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5785A-752C-46D8-9756-09E30A19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F42-38D4-4276-B017-2687B596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EBCE-77BE-4592-A24E-19D61804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1D28-0533-45A6-BCA4-5ECB4A82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1468-C7A1-4ECE-A08C-1C0688BD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295B-FF18-4B08-902A-DA7C1104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CB7B1-C35F-4E2B-AE19-505147A4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178C-A678-4409-9314-BDF62D95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7883-8EA3-43DC-A859-5D6F9A04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11DA7-ACE7-4691-97E1-C69174A9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ADA01-8228-4C89-B7DC-9C7D5584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D51BF-E394-4585-90EF-BE268E2B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257-EE48-4475-ACF7-76104F45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BB02F-C8E1-424A-8120-53F7E319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DE678-C666-41F2-BA95-6662FB56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4121-6FBD-4157-8075-43DDDEB3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20C0-B06B-4D7A-9139-4827F7E9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49729-08BC-4022-A0F5-C59651A6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4CF0C-9A79-45A0-9B71-244B16D0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ECE20-5EB6-4E66-A49E-FC122DFE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877F-6067-463D-A9D2-862EB669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7A557-9CF5-4CA4-904E-121FF3A8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9963-8FE4-4150-B497-A31F3C07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709-2A9C-4457-BC47-037127DC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1BBED-12BA-4A4B-9C1C-DAC5EF4D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36CB8-32B1-4860-8823-EFBC4708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5057F-16FE-4E19-8644-C185F20B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10C7-C25B-48D9-B9D9-E218B760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3116D-54A1-43C6-AED4-AD679388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A6F04-EF8C-43B9-8E5C-624DD278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ED8E3-91EF-4826-88B4-81F55BF9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83678-CFEE-4435-A543-1E891C8F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59DD1-54CC-40FA-BE2C-458D4A10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1F21F-315E-44B1-A88C-887C9190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B68-86A9-4B04-9EAD-972DEC37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B5A7D-64A1-42BD-BE40-4CD7C8AF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5FF17-79B7-4210-A10B-B6C26E8A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6F1EF-C5BF-4403-9637-9430E479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8988D-A210-42FC-914C-CF75EFCD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B2F16-E95E-4E9F-BFE4-097839E5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8E201-CA29-489C-9202-6A64DE90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B83EA-8CDD-43FD-A8E3-75EAEE8B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B95BC-33B5-429E-9ECA-FB77228B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1D28F-933A-4638-AAE2-1F08B29F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CC8DD-E315-469B-B206-BABF0F5A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A06-3588-409A-80A8-C7EFE8A8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AF684-599C-4E21-B093-84A4F517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281C9-F355-4243-AE05-59F44788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EC718-BBC4-4784-8D31-73E8CBC0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662FD-FB98-4C87-A944-21CCD9DB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1D717-2A06-4846-9224-1DD3971E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CC7C9-64DA-46C7-9819-0AB72FBC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89A5E-18C9-45F0-AC19-CABE62F2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C94D9-4F79-4356-B734-F6792FEC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CB828-08DD-44A5-817A-B71856F9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F6853-E228-4DFA-BF4D-A0D972CB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412-3BCE-4A04-A269-F1FE9298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15D17-FC95-4005-8EC8-F89DDAD2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90034-7C5E-479F-B9AC-1586DCEB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F3F37-7D64-49FA-A5E0-5E4B115E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B9E34-7ACA-4F3D-8DB6-834C0CE8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1B1DD-91CC-410C-9F05-A5B4158E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F0B7B-D71D-44D2-A387-4F78C71B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3F1D5-4B2B-4350-887D-74D215D8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49378-F6F2-4E38-B5B3-E9501BD4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7FECD-3564-4B7E-A34D-24D4B226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4C487-62E6-4FCD-99CD-7643D9B2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079-5605-4C60-98CA-48CC38BC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340E4-9504-40F3-AB88-F62165CB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2E155-D826-4073-86A8-026F19A5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02302-DB09-4CCF-86E9-F7D81B5B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5FE1D-F5FA-4A6B-A1A2-BB99E10F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1BA41-5DF3-486D-A00D-9A7BC49B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E4C6F-8BD8-41C3-938B-217E61B6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07796-F160-48A7-9BB9-D1497DEA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871B-6617-4798-9133-8F91F5776FE1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1331-C49C-4CB0-A921-9A614BC9CC00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78EC-F3FA-465B-BAAD-4AC15423E143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F71F-0ADD-48BB-B771-AE9A1F72F3C2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ABFD-BB45-40CA-B5CC-0275CBE9537F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16E0-8403-4B54-A81A-D2D19BF0C09E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00B8-32AB-42D0-B8D4-E90C3D4CE359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63EC-4009-4AB2-9BE0-17776419C28F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google.co.uk/imgres?imgurl=http://www.hurling.be/images/hurl.jpg&amp;imgrefurl=http://www.hurling.be/shop.htm&amp;usg=__-DFg0jlIvZuIhI67I8Fwww089bA=&amp;h=214&amp;w=350&amp;sz=20&amp;hl=en&amp;start=3&amp;zoom=1&amp;tbnid=mD9Mtj1ARg2uxM:&amp;tbnh=73&amp;tbnw=120&amp;ei=Gr8VT9y7Ds2YhQe-_LzaDw&amp;prev=/search?q=hurl&amp;hl=en&amp;sa=N&amp;gbv=2&amp;tbm=isch&amp;itbs=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google.co.uk/imgres?imgurl=http://www.tedmurtagh.ie/image/cache/data/ONeills/prd_2_6355197-500x500.jpg&amp;imgrefurl=http://www.tedmurtagh.ie/index.php?route=product/product&amp;product_id=92&amp;usg=__My_Xp4mYjzdjVU8T7gvvTeI50do=&amp;h=500&amp;w=500&amp;sz=78&amp;hl=en&amp;start=3&amp;zoom=1&amp;tbnid=NKgZRwkUgHaljM:&amp;tbnh=130&amp;tbnw=130&amp;ei=ecMmT8DCH4e7hAeC3bTtBA&amp;prev=/search?q=dublin+jersey+2011&amp;um=1&amp;hl=en&amp;sa=N&amp;rlz=1T4DKUK_en-GBIE293IE294&amp;tbm=isch&amp;um=1&amp;itbs=1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google.co.uk/imgres?imgurl=http://ballymahongaa.com/GAA_Emblem.jpg&amp;imgrefurl=http://ballymahongaa.com/index1.html&amp;usg=__tTKvkcfhWcqvC_VNbsEJXI7Hu8k=&amp;h=314&amp;w=534&amp;sz=11&amp;hl=en&amp;start=2&amp;zoom=1&amp;tbnid=sVhPwuZRS79SdM:&amp;tbnh=78&amp;tbnw=132&amp;ei=Xb4VT-LgMsXLhAfw2L2oAg&amp;prev=/search?q=gaa+logo&amp;hl=en&amp;sa=N&amp;gbv=2&amp;tbm=isch&amp;itbs=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google.co.uk/imgres?imgurl=http://www.sportsfile.com/winshare/watermarked-b/Library/SF710/510582.jpg&amp;imgrefurl=http://www.sportsfile.com/search/hill+16/2/&amp;usg=__qWJdKe6UIhrhIsFqd6NnC0QT9fE=&amp;h=368&amp;w=540&amp;sz=54&amp;hl=en&amp;start=3&amp;zoom=1&amp;tbnid=hcuJ5WHMb64DTM:&amp;tbnh=90&amp;tbnw=132&amp;ei=ncEVT8PKK4qZhQfk1sWWAg&amp;prev=/search?q=dublin+hurlers+with+allianz+cup+in+front+of+hill+16&amp;hl=en&amp;sa=N&amp;gbv=2&amp;tbm=isch&amp;itbs=1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google.co.uk/imgres?imgurl=http://img.rasset.ie/00029266-674.jpg&amp;imgrefurl=http://www.rte.ie/sport/gaa/championship/2009/1015/gal_hurlingallstars2009.html&amp;usg=__p-uGHCAlmx4hNnOdLmoaOebRsEY=&amp;h=506&amp;w=674&amp;sz=86&amp;hl=en&amp;start=3&amp;zoom=1&amp;tbnid=hQgdbS0bVO7gkM:&amp;tbnh=104&amp;tbnw=138&amp;ei=ee4WT9S9Dsa3hQeFraXwAg&amp;prev=/search?q=kilkennys+right+half+back&amp;hl=en&amp;sa=N&amp;gbv=2&amp;tbm=isch&amp;itbs=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google.co.uk/imgres?imgurl=http://www.sportsfile.com/winshare/watermarked-b/Library/SF517/372375.jpg&amp;imgrefurl=http://www.sportsfile.com/search/henry+shefflin/5/&amp;usg=__Q-5oA6xYTHF2SFUVXD8Tb8tqtyQ=&amp;h=540&amp;w=345&amp;sz=28&amp;hl=en&amp;start=13&amp;zoom=1&amp;tbnid=09kyVTAMchGikM:&amp;tbnh=132&amp;tbnw=84&amp;ei=z8MmT7W-BYu5hAfTg-zUBA&amp;prev=/search?q=henry+shefflin&amp;um=1&amp;hl=en&amp;sa=N&amp;rlz=1T4DKUK_en-GBIE293IE294&amp;tbm=isch&amp;um=1&amp;itbs=1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o.uk/imgres?imgurl=http://www.hoganstand.com/Common/NewGallery/AB4C0051.jpg&amp;imgrefurl=http://www.hoganstand.com/meath/ArticleForm.aspx?ID=138717&amp;usg=__ZcpYZZW1hKrNQKJ_fQklN5PzuKc=&amp;h=280&amp;w=420&amp;sz=133&amp;hl=en&amp;start=8&amp;zoom=1&amp;tbnid=2LHT0UpoZhMmGM:&amp;tbnh=83&amp;tbnw=125&amp;ei=L8QmT8iSAsGphAeRweiPBw&amp;prev=/search?q=st+mary&apos;s+ns+ashbourne+gaa&amp;um=1&amp;hl=en&amp;sa=X&amp;rlz=1T4DKUK_en-GBIE293IE294&amp;tbm=isch&amp;um=1&amp;itbs=1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053560" cy="2206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ff0000"/>
                </a:solidFill>
                <a:latin typeface="Lucida Sans Unicode"/>
              </a:rPr>
              <a:t>By Conor &amp; Alex… </a:t>
            </a:r>
            <a:endParaRPr b="0" lang="en-US" sz="4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http://t0.gstatic.com/images?q=tbn:ANd9GcTYM05dS3h33uGdtsT4IUh0vTVFaRAQgsECkVQQLocZJmZK98_vVvZj9mU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3807000" cy="3068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b050"/>
                </a:solidFill>
                <a:latin typeface="Lucida Sans Unicode"/>
              </a:rPr>
              <a:t>I always love to see the new Dublin jersey’s coming out at the start of the season 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They  have sponsor’s that pay a lot of money for teams to put their company’s names on the teams jerse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t1.gstatic.com/images?q=tbn:ANd9GcT6bThLMByTbo0rhwA7sVYTjk7C0iAn0-J3fkHVvNt9rkMk9C_abPl3Jiku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3672000"/>
            <a:ext cx="3203640" cy="2709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en you score a point it count’s  as 1 point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ff00"/>
                </a:solidFill>
                <a:latin typeface="Lucida Sans Unicode"/>
              </a:rPr>
              <a:t>When you score a goal it count’s as 3 points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b0f0"/>
                </a:solidFill>
                <a:latin typeface="Lucida Sans Unicode"/>
              </a:rPr>
              <a:t>At under 13’s you play 25 mins a half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9900"/>
                </a:solidFill>
                <a:latin typeface="Lucida Sans Unicode"/>
              </a:rPr>
              <a:t>At senior level you play 35 mins a half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http://t3.gstatic.com/images?q=tbn:ANd9GcRZPC1oe6TghygBUL2Dld9z8PQfQn6z4-fkc7UJGKIAZ-1Fmsc7C_kmyC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4221000"/>
            <a:ext cx="3365640" cy="1989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ffff"/>
                </a:solidFill>
                <a:latin typeface="Lucida Sans Unicode"/>
              </a:rPr>
              <a:t>Dublin hurling has taken a massive step by reaching the All –Ireland senior hurling semi final  against Tipperary on the 14</a:t>
            </a:r>
            <a:r>
              <a:rPr b="0" lang="en-GB" sz="2700" spc="-1" strike="noStrike" baseline="30000">
                <a:solidFill>
                  <a:srgbClr val="00ffff"/>
                </a:solidFill>
                <a:latin typeface="Lucida Sans Unicode"/>
              </a:rPr>
              <a:t>th</a:t>
            </a:r>
            <a:r>
              <a:rPr b="0" lang="en-GB" sz="2700" spc="-1" strike="noStrike">
                <a:solidFill>
                  <a:srgbClr val="00ffff"/>
                </a:solidFill>
                <a:latin typeface="Lucida Sans Unicode"/>
              </a:rPr>
              <a:t> of August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0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ffff"/>
                </a:solidFill>
                <a:latin typeface="Lucida Sans Unicode"/>
              </a:rPr>
              <a:t>They also won the Allianz hurling  league against Kilkenny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t1.gstatic.com/images?q=tbn:ANd9GcQmqmbkpW8Yv0YSQx6_BOddEzQ8SCa-sMmzHbINeVexZOsGbBJchBvzUo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4508640"/>
            <a:ext cx="4319640" cy="234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566720"/>
            <a:ext cx="82296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ommy Walsh is  definitely Conor’s favourite hurling player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29eae"/>
                </a:solidFill>
                <a:latin typeface="Lucida Sans Unicode"/>
              </a:rPr>
              <a:t>He plays right half back for the Kilkenny senior hurling team that won the All-Ireland this ye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He wears the number 5 jersey .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t1.gstatic.com/images?q=tbn:ANd9GcTP1gkqI2JRB_mLtQ8bKV-ZorScDEISKohf5h0eMfPaEnCG6LORLHFrlWh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508640"/>
            <a:ext cx="2467080" cy="2062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me say he’s the greatest hurling player that ever lived 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700" spc="-1" strike="noStrike">
                <a:solidFill>
                  <a:srgbClr val="00b0f0"/>
                </a:solidFill>
                <a:latin typeface="Lucida Sans Unicode"/>
              </a:rPr>
              <a:t>His nickname is king Henry and he truly is the king of hurling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Lucida Sans Unicode"/>
              </a:rPr>
              <a:t>He play’s half forward for the Kilkenny senior hurling squad for quite some time now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He’s also Alex’s favourite hurling player 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http://t2.gstatic.com/images?q=tbn:ANd9GcTHyfk_pyMA0wjuWakQ5YPVIiJvVpbKuxWaZaLgN7FZOWGwWY8pLKmv1C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5640" y="4653000"/>
            <a:ext cx="1881000" cy="183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Lucida Sans Unicode"/>
              </a:rPr>
              <a:t>Conor </a:t>
            </a:r>
            <a:r>
              <a:rPr b="0" lang="en-GB" sz="4400" spc="-1" strike="noStrike">
                <a:solidFill>
                  <a:srgbClr val="ffff00"/>
                </a:solidFill>
                <a:latin typeface="Lucida Sans Unicode"/>
              </a:rPr>
              <a:t>and</a:t>
            </a:r>
            <a:r>
              <a:rPr b="0" lang="en-GB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4400" spc="-1" strike="noStrike">
                <a:solidFill>
                  <a:srgbClr val="00ff00"/>
                </a:solidFill>
                <a:latin typeface="Lucida Sans Unicode"/>
              </a:rPr>
              <a:t>Alex’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Lucida Sans Unicode"/>
              </a:rPr>
              <a:t>PowerPoint !!!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http://t3.gstatic.com/images?q=tbn:ANd9GcQ1qAFqzIQfEg3RLCTpdMaGZUOJ9F-Lqu9H_TkRFsic4-mLVv_OvwKG_Q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3141720"/>
            <a:ext cx="3384360" cy="2879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http://t2.gstatic.com/images?q=tbn:ANd9GcRpmOdklUnDAmarS2P3NsSeObOg0oMNnV18h-YLlIg67nQYSorJeQwiNw"/>
          <p:cNvPicPr/>
          <p:nvPr/>
        </p:nvPicPr>
        <p:blipFill>
          <a:blip r:embed="rId4"/>
          <a:stretch/>
        </p:blipFill>
        <p:spPr>
          <a:xfrm>
            <a:off x="1547640" y="3500280"/>
            <a:ext cx="2519640" cy="2416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8:20:14Z</dcterms:created>
  <dc:creator>Sean O'Farrell</dc:creator>
  <dc:description/>
  <dc:language>en-US</dc:language>
  <cp:lastModifiedBy>gerard.obyrne</cp:lastModifiedBy>
  <dcterms:modified xsi:type="dcterms:W3CDTF">2012-02-02T12:24:55Z</dcterms:modified>
  <cp:revision>17</cp:revision>
  <dc:subject/>
  <dc:title>Hurling !</dc:title>
</cp:coreProperties>
</file>